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40A-52E4-4BC3-934D-31F705BB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0C6-D4D7-4C5A-8479-8DD916E4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1F9-8AFB-442A-9F36-5E20FD73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294-30B1-4D55-AE67-6E3EF326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49-593B-4F30-9E7D-5419CF5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928-EEB7-4B88-9568-7453F7AD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71D-AF98-4ACA-B024-579D53B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5E9-D239-444C-B259-07FC4ED5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61F-B1C5-443A-9D70-FF4664FC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D16-C666-4368-8C57-0A5CD2F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444-1DFA-434D-B210-8C150869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FCF-111F-45D1-A565-4F472CE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3732-E71F-4A11-B223-C41284DBA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adered.com/rrr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oeHand 2"/>
              </a:rPr>
              <a:t>Is Your Lesson Rigorous and Relev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eHand 2"/>
              </a:rPr>
              <a:t>Exploring the Rigor and Relevant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eHand 2"/>
              </a:rPr>
              <a:t>Exploring Questio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allenge: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Who can name the levels of Bloom in 10 seconds or les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alibri"/>
              </a:rPr>
              <a:t>Do you think about Bloom when you plan your activit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oeHand 2"/>
              </a:rPr>
              <a:t>In CCPS the Rigor/Relevance Framework is used to determine the level of rigor of your lesson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the purpose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rigorous lesson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fferentiates Instructi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creases student achiev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termines the level of questions to ask your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or/Relevance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adered.com/rrr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11721" t="16666" r="12500" b="10420"/>
          <a:stretch/>
        </p:blipFill>
        <p:spPr>
          <a:xfrm>
            <a:off x="1447920" y="1638360"/>
            <a:ext cx="66294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ahaj\Desktop\Blackboard-psd10951.png"/>
          <p:cNvPicPr/>
          <p:nvPr/>
        </p:nvPicPr>
        <p:blipFill>
          <a:blip r:embed="rId1"/>
          <a:srcRect l="-94" t="0" r="-2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7970" t="22917" r="17970" b="36462"/>
          <a:stretch/>
        </p:blipFill>
        <p:spPr>
          <a:xfrm>
            <a:off x="1447920" y="1447920"/>
            <a:ext cx="624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joeHand 2"/>
              </a:rPr>
              <a:t>Your Tas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oeHand 2"/>
              </a:rPr>
              <a:t>Use your lesson plan to determine the rigor of your lesson activities and objectiv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oeHand 2"/>
              </a:rPr>
              <a:t>How would you change your activities to increase the rigor/relevance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oeHand 2"/>
              </a:rPr>
              <a:t>Develop and Identify the five questions to match your rigorous activiti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re is the part you changed or improved? (Knowled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 How is this different from the original? (Comprehens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 How will you use this in your classroom? (Applic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.  In what quadrant did you classify the change? (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. What other ways could you increase the rigor in this activity? (Synthesi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.  Do you agree that the level of rigor in this lesson will increase student learning? Explain? (Evalu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5:02:44Z</dcterms:created>
  <dc:creator>ccps</dc:creator>
  <dc:description/>
  <cp:keywords/>
  <dc:language>en-US</dc:language>
  <cp:lastModifiedBy>ccps</cp:lastModifiedBy>
  <dcterms:modified xsi:type="dcterms:W3CDTF">2010-11-08T18:29:54Z</dcterms:modified>
  <cp:revision>6</cp:revision>
  <dc:subject/>
  <dc:title>Is Your Lesson Rigorous and Relevant?</dc:title>
</cp:coreProperties>
</file>